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63A-C941-4212-9254-63C5F075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00F-F5A6-4B73-B203-92094065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4F74E-6990-4DDD-A5F0-6993515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6E689-D659-479F-AEB7-EB5565A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B77AC-7F7F-41B2-8628-FF4C7482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F365C-6C3F-4A2E-B900-39CE6792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A8F0-5227-4561-8C4A-3177545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6A360-9979-4085-B2DA-0D3C416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65206-9A4A-457D-9F00-3CCC40C2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BA14F-C13F-4DA4-901C-43513DE1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6488B-56C7-4354-A82B-63FF1742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221EA-A723-4D1B-B29F-F2C1C76F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EB2-B57C-4311-936C-69BD33CD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19B9C-3958-4BAB-AE68-94F905A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D6B93-B9B2-43E2-8530-669F8A44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789BD-F396-4FE5-89B1-07F3B5A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95990-0DA3-4BB1-A08B-DB39066C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7E107-60F9-45A6-B044-1061BCF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1B6BF-25BF-444D-BE5B-9EFEFCA2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26861-795D-47E1-B34D-F442D364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B1291-348F-46C5-8384-4493CD99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7D3DB-8E85-4B19-81BC-126C19F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21A04-2FFC-400C-AE83-F1EA856B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1A5-C12E-42B2-9B5A-31E0A9D3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20351-BC34-4F7E-B017-92808FC8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7E88D-BE64-4347-BDBF-95A95389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0374-AEA6-4DA3-8CC7-07D970A6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56B2B-BC47-4B08-A7C9-5E5C9529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1C820-D14C-4ADF-B071-23CDA9E8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D3E8D-7F3E-4222-9D7D-01A02881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CED70-C660-4F43-8AE0-5A25162B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E1A8-5D4F-4EB1-8859-9F788B6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8AD28-5FDA-4539-BE6E-0F59E7D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0C6AB-2EAD-4C0E-A9E7-41D1CF5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7C66-C170-408D-BBEA-4F0543C0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0DF0C-1822-4682-A549-12F8101E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F61F1-365B-49BB-84EA-ECBA27B9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EC09B-0C77-43D5-939C-BFDDF98C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01518-B266-499B-8D7A-0DAFAD6F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16A17-D05C-4DE6-BA7F-49841B1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32857-CB6D-4D5B-89AA-8DEDB7E6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36645-69ED-49A3-A80D-79453C71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D5A0B-AEEA-41C1-ACC4-FF2E7FC3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6C8F8-05C7-4A8A-A877-9F194901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ED8E3-BC74-4CA7-B8C7-6B6FAD9D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461E-39C4-4156-BD67-DC5519D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55BE6-2750-4AAF-94C8-7549A1B4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149E0-27D2-471D-A791-3034469E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8AAE5-DFA8-49E6-B25E-3A69A087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53541-A4B5-438B-B0C5-12FD4C77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8CC59-36EE-4BD0-8045-FB8DDF1C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094CD-7E9E-48CE-8B43-AAF13D54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F6698-224F-49B9-B250-5CC1ADD3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94B33-4558-4D82-93E9-FC3C1153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9270F-FF48-4295-8BEA-5341959F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C3279-57EE-4509-B83E-D11F5AF7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FDA-63EA-4E90-8F0C-7C9D5B14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E9FD8-706E-4BD9-A3C4-CB4E4A4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E92B0-B029-4DB7-948D-3311987E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6BE57-DC3F-4826-BD85-93764650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9045A-E535-42CA-8120-8893F55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26A04-FE68-46EC-BDBC-ADF8A108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96DC1-8332-4A26-AAFD-C4A52CBA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DBD18-7B72-4F68-ADA3-987479F7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30028-CDB5-48E4-A370-5FF4AAA0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CE6CC-6E84-41C7-B652-F797659F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DF37C-04DC-447E-AFBE-6DAA6B75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54A2-7A9B-412B-80A8-D669623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32485-32EB-4A5D-8F8E-B3BD4CB6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9227B-5FDE-4ACF-B80E-EFCBCD7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DE1AC-C138-47F4-A88A-D5569FC8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95CE0-9872-4329-BB54-F1AE259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AD4F2-4056-4195-A28B-F55787A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D6EEC-51D3-4B63-9BA9-D5BD7B7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CE6D3-1304-457E-9774-5735E4C5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F846E-1794-4312-ABD8-4076906E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4DF07-38DE-4100-A43E-F4D40D1A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8C512-0D06-4392-B5EB-6D7B4355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5D35-912F-464D-906E-B73FD14D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CF9A5-7280-40BD-A091-FC5968EA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1FF04-4762-41F3-9986-99959A94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06225-5DE5-4732-8D37-97F6929A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02FFA-023D-473B-BEF5-1908A702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75A44-DDD2-40C9-B678-5136454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97B65-98FC-4E62-B08C-847FAC2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457B6-72DA-4CD7-B64F-A2A1550A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95D66-815C-412A-B8A8-A05B512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56144-307B-49B2-A5DB-73CAD794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04A2D-EE80-4BDF-9ADF-931D1197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E0C0-BAE8-4CA4-9155-2DB85ED3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211A0-49E0-42CD-AC05-D3979123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CB6F8-CF72-4E8A-BF77-0936627C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C8901-C31C-4AD0-BA44-1F611839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36EA6-680A-4E88-BAEC-1BACE68C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9BA9E-3909-465A-98DF-3956E009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4E40D-0148-40B8-AE4F-7A53F419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C4F5D-EF04-4C87-8395-CEDD68D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DE4A6-31B6-4861-8B0E-A0E54F72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7F950-9510-4C7B-ADA1-B0D8E96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75F17-8963-4203-A3B1-3CCECF5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19AC-80D6-47E3-B09B-83D920F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BC182-4E00-4361-801B-035D6745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79853-8ABC-4ADD-A02F-4CEDA39A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84CB3-70B3-4067-8CE4-7C806F0A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8B384-BBE9-4104-BA3B-BC987562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7FC9F-8D19-4DCF-AE1E-A70D8905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AA87C9-8EB0-4CA3-932E-10D7D2D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0E3C9-5E0B-4F20-8C69-3AEDA002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A33A7-8D12-4B53-BD96-C24D1452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117BF-C472-4856-BD44-818C4D4B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DA1B3-51EF-4978-A308-DCA7D54B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6F6-DFF5-4479-898B-7F7D221C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7C0D-E367-44B6-8011-43C9D0E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16AD6-EF85-46F6-9A8B-29EB423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450DD-80BC-4C53-BFDA-D9AF4C11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B5343-ACBE-4FCA-9F48-202C894A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01584-A99D-4992-BE32-12228602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7BB6D-F736-4484-94FA-026BC357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B3BF2-8900-48B0-B3CF-D06FE1A2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FAF60-6E45-49F8-900D-80FFADC3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E2691-ED13-475C-BD5B-8DB45FAB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39BB4-BF9A-4BC9-97D4-01D2A5DC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7D46E-DFC6-44AB-890D-7A00C45E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A3C8-1CF6-4E87-B647-32C565CA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AA977-E01E-4BFF-86A5-0DE39AF3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EDC05-1212-43B7-BB02-EDF70AF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22CE8-20B3-4397-967E-51B3B79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A102C-F841-4AB2-A181-2826C821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A3A75-3F4B-4ECB-9C1E-3B95A662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9FA50-3A6D-4A26-81F3-E7455638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90C6B-B605-4636-8D47-3480AFF5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60B8F-E938-4694-8ABA-A6703E5A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C0F47-785E-45B3-912B-3E8A0533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057B6-742A-4B06-B49B-6A5DF1CF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44EB-1CA2-46B6-9A66-F77F823F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6AAE1-7307-4B2B-8DCF-2970339D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F89D0-51EC-481B-871F-F5DFEE44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D5F1D-33A5-4D81-92FD-F8C62ECD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1B00C-3634-4748-B282-3A0FF01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93922-D80A-4490-8B4A-1167C0A6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0C521-27D8-4634-B1CB-C46851F5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A8727-55F6-4D29-8392-F4C86A10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9A7CB-47A1-4952-B7C0-E6A0DDFB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72A55-345D-474F-BE54-D8290666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97791-5F74-4131-AC17-21E7B684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6B6C-9526-4BCA-89A5-63222E78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8D6684-0860-4A58-9C95-8C36860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7AEDD-A426-4C24-A98C-6D9F1C3F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34BB9-06CC-46B2-A5C2-8AA9DCC5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CC29F-0C3A-4401-A52E-033666DF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8274C-B6B6-459E-BC40-3B772B3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94F4B-AB93-4EFE-BFEE-5457E38F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C79F4-B63B-4C0C-8A8E-A25BA88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C9DAC-1000-4D72-970E-0A20BE1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28AFB-6B49-4DB4-97FA-10E52CD1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F23E1-233B-4400-929D-C0AD38E4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B2BC-463D-4B8F-80C7-0A40933E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0E5B1-B19D-4834-B97D-215538F7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40805-AAAA-47B9-B008-457D0114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43A2B-77E7-4909-9248-C9073AD5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4E822-EF91-45C9-8318-8BF162FE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3006F-479F-4536-A863-4593061B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88988E-5471-47A6-80D2-9BEB3637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0B1EF-A30F-4206-B841-E058200F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8F318-1AF4-4FD3-B54A-E95740F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1015BE-B762-4E21-9BFF-E9F08A52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8923D-3DE0-45D9-9894-972FBF3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4B41-8F3E-42C2-9E7A-A41C81CD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64EE6B-6D2B-4512-8CCC-0B72DDBC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4B1DA-B4DD-4303-B0DE-F227CC12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28E16-F7B7-4F06-972D-47B7DF33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A1C9-F83E-4983-9445-C259DF2F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E9C3-0058-4073-8963-F532AE1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FE52-20D0-464E-B00D-80375C88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8349-8E22-4334-AC45-C7A758E7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932-2928-4DCC-A98B-277F946E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82D0-FB41-4B38-A6AA-28A5D31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FFF6-D29B-4866-A0D5-8BCC1102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8316-CB97-4140-83CB-09F4F134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26EF-BA40-4066-8C34-BBB9878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AEEC-E0CB-43FD-8544-D9316158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F57D-40D8-4829-82FD-6F1C09FC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FB16-3CD0-4800-8280-D48DFFC8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33C2-5166-4205-8E64-03F08A8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4B35-3AE9-43B5-875A-FBC8B9E7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2DE5-7B2D-441C-AFFB-22F66ACB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901-E881-4C21-81C4-A41FA067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D6E34-EEFC-45D6-995E-7C61C311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4215-EB7C-4F05-BC66-CDA20F12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6E2A-A2FF-49A1-8255-221BC4C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D7453-2F75-4423-9DC1-53F57C3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9661-616D-4E40-9FFA-B8910ABB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0A48-0CD4-414B-9755-9F8106C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FF45-25BA-497A-8FD9-3B87E038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E3DD-B3C8-4506-9B13-9BFE99FC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60C1-6D2B-4A24-AF3E-8B7DD941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A117-7866-4CCC-9A37-B26612F3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7B5-7651-4579-AE1A-7B15DC9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64686-C0DB-4529-8D57-0055953F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26B6-7469-408F-A615-6BD5BCD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8812-D285-4CDC-9B2F-0437B782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5790-7C87-44F6-B150-F790B92A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111B1-62B6-4E08-BA1A-7151CCED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FBAA8-3AF2-46B9-85BE-72F65507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3B0B-F2A1-440C-A930-AC32A8C1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33E09-9265-44C8-BC2D-F94CA95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93F25-CE80-42E0-8F9F-6966E21E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F488-2D1A-4AB6-ABA3-40892640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2E6-EB23-4471-8C7B-046B437E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6345-60A3-495E-92E5-465541E1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052C8-0C9A-44BC-BE20-4BC9A69C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64156-0BE3-42E2-AD74-2AA23C57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CFEB-C089-4DD0-95E4-000B6F8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9C64B-41BF-4D06-92D2-61AD2432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32DF-E3D7-4F1F-8687-97028B9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EA4BE-A7F4-47EA-B733-6525C5CB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0257E-C808-4630-AF31-00CB8D3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46A43-21D4-4557-BA5E-9AEB3C6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DD3A9-8FDB-4A0C-B1A2-87B605D0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352-5D46-410E-9682-0ACFEBA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68C1-74E3-4087-8BD3-8DEDF8C1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D258-B28A-4672-B859-36949444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73AA2-FEE9-4126-966C-1A27C5DD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EF7C1-FEAF-4478-8648-D4227421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85020-A814-4DB3-98F4-8ABD3947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EFB6-CA0C-4B81-AC53-76FA19AD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1BC5C-04A8-4266-9732-E507ECA7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B260-70E9-4D05-AE91-A9EF1D79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598A9-77E6-4D60-8DC2-3D22A0E0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FBC5-7952-4C1B-8E84-67B171BE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1CE-5254-47D2-9B4D-60AE43A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E24D6-AF7C-400B-85B5-9FFD114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857B-296D-451C-820E-B55B8F31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91F3-92BC-472E-9DDA-4AF83C6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1E2FE-FAA6-47BB-836E-939822EB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93F0-C0A1-4B6A-A60B-77E5AFEF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7DB5E-279C-40DF-ADF0-72C55560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4B381-DF5F-4D79-A5F3-EE7B2E58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E2AA5-362D-459D-ABC5-F62376E7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E1141-2E5A-42EE-8ECF-810C9749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CE00B-AE4F-458D-8BE0-204885E8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8D6-DA59-424F-BF4C-5D348271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BDEE-F1F5-42C4-8E2A-65964AF5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97FBE-4A06-496C-BE08-AE00A1DF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5D889-894F-43AB-8D59-E9789C2F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80193-D9D6-44C4-9672-F826CAD2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D5B65-F41C-411C-BC2F-8C3CE27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6CDC0-5F96-489B-BF2B-C43FAD9C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752A-DE09-40C3-AC76-D2686E9A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A6CDB-1F35-4B24-980F-2DE46C50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509FC-381B-48BC-87E5-81F646D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31B73-0B03-4888-935C-D6E1F2D4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3DAC-6B4C-4CBE-B3A4-43E87DF93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9CFD-9BC2-4F8B-8CD2-BEF4025779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4BB2-B164-4CE6-973B-02F1C8FC99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6EB-D2C9-423B-AB92-B8BBE414E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E43E-A5E4-4FF8-8019-292D86687F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85CD-7640-4F08-A964-F2A6C6B3E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E121-F28B-48C0-ACC8-D6CDA462A6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59E4-9050-4E7D-8250-909344AEF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704-6496-40CD-B0CD-4A7A4C4DB7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D39E-0D8F-4AC1-85DB-50310D178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5E8-C5C7-4C81-9C77-BE4E3917E1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91DE-696A-4160-9A05-F987C43E5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E5A0-B63B-4F7E-B4F4-BA58EEE1A7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84AE-3DDA-4A5E-AB3A-D4FC423FA0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FBB0-C14D-45F6-B9AC-8738A869D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F477-C16A-4DCD-9074-6E070CEF67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5F06-3B19-4FF7-9594-A770083C1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1D7D-13C4-4135-822A-22E8408D9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9201-3A19-4B57-8E3B-79BBED0A7D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D5D0-B271-4C64-8DD6-0C376F5713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F5B4-B7A4-472B-A441-D86439015A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6581-418C-4D72-B5CC-BFB8B67AFB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31E-ACFC-4D5B-9A24-319839042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D395-A6DC-43E6-8972-B0EB6C4762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74BE-6204-4A34-932C-A5F86C184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A96C-641A-49C2-87EE-B11F222C9B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7147-9731-4E08-8F47-BA5BBF0738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E179-2910-43FA-ACDB-A5C6646D2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4DA0-A398-4B61-BECC-ECF05B7F8B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0343-A872-427C-B8CC-89FFE8355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1132-0640-4DD9-995C-DC0FAA474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9B0A-A96C-418A-BB24-B7E999894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ECBE-D0CC-44BC-BA6F-B3CCF3084F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33F4-8AD6-405A-B866-8D86D8C770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4B5-D83D-43CA-8190-D565D54CCA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84EB-BF92-468E-81F0-A04A66738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38DD-3733-48C0-B888-5933E893B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EE7-6BE1-43FE-93F8-7E7124310E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BD29-F235-4755-97A2-48674F39E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29E-B8DF-4785-88DA-E078BCC93D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495520" y="2943360"/>
            <a:ext cx="41529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5440" y="1228680"/>
            <a:ext cx="9031320" cy="4616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124000" y="2468520"/>
            <a:ext cx="792360" cy="255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156360" y="2468520"/>
            <a:ext cx="2448000" cy="25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763640" y="2762280"/>
            <a:ext cx="2521080" cy="255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940360" y="2762280"/>
            <a:ext cx="2448000" cy="255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2195640" y="3044880"/>
            <a:ext cx="2520720" cy="255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2050920" y="3592440"/>
            <a:ext cx="865440" cy="255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4788000" y="3583080"/>
            <a:ext cx="865080" cy="2556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812000" y="3592440"/>
            <a:ext cx="865440" cy="255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1979640" y="3889440"/>
            <a:ext cx="865080" cy="255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4859280" y="3889440"/>
            <a:ext cx="865080" cy="255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755640" y="531972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3564000" y="531972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5"/>
          <a:stretch/>
        </p:blipFill>
        <p:spPr>
          <a:xfrm>
            <a:off x="5460840" y="5310360"/>
            <a:ext cx="432000" cy="2552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6"/>
          <a:stretch/>
        </p:blipFill>
        <p:spPr>
          <a:xfrm>
            <a:off x="7543800" y="5310360"/>
            <a:ext cx="431640" cy="255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7"/>
          <a:stretch/>
        </p:blipFill>
        <p:spPr>
          <a:xfrm>
            <a:off x="755640" y="560880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8"/>
          <a:stretch/>
        </p:blipFill>
        <p:spPr>
          <a:xfrm>
            <a:off x="3492360" y="560880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9"/>
          <a:stretch/>
        </p:blipFill>
        <p:spPr>
          <a:xfrm>
            <a:off x="5479920" y="5608800"/>
            <a:ext cx="43200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2" descr=""/>
          <p:cNvPicPr/>
          <p:nvPr/>
        </p:nvPicPr>
        <p:blipFill>
          <a:blip r:embed="rId1"/>
          <a:stretch/>
        </p:blipFill>
        <p:spPr>
          <a:xfrm>
            <a:off x="144360" y="2536920"/>
            <a:ext cx="8855280" cy="1784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74720" y="279072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755640" y="332892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755640" y="381780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7"/>
          <a:stretch/>
        </p:blipFill>
        <p:spPr>
          <a:xfrm>
            <a:off x="755640" y="4086360"/>
            <a:ext cx="36036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92160" y="841320"/>
            <a:ext cx="89312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1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